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05A-E828-4DC3-977B-C1D4D395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3BD-7A43-45D3-9A2D-1ECFC1C8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3BB-AFC7-44F4-BD1E-5DF7BB31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890A-A502-48D9-A11C-551C31DB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FA0-EC43-40E9-9B99-7A9B1737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287-DB2F-421F-9E21-6D9B5DD4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F22-C264-496C-AC3F-24D7DA03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135-1786-4ECC-AB77-198D61E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C4D-041F-4760-A18E-F9801BA1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383F-444A-46F1-8207-D48C3E0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9B7-18B3-42E2-803C-9713A07F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4831-EFBF-460C-8BAC-D8D7BEF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9A13-561C-4564-AD54-619DBCD5C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1948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04920"/>
            <a:ext cx="3048120" cy="103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القيامة ، مَن آمنَ بي يَحيا وإن مات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0"/>
            <a:ext cx="2362320" cy="9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نحنُ الذين لنا باكورةُ الروح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نئنُ منتظرين التّبني، إفتداءَ أجسادنا</a:t>
            </a:r>
            <a:r>
              <a:rPr b="0" lang="ar-SA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77004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إذا كان أحدٌ في المسيح فهو خلقٌ جديد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-228600" y="304920"/>
            <a:ext cx="93726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مَن قامَ من بينِ الأمواتْ أحييِ أجسادَ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بروحِكَ القدوس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9:42:38Z</dcterms:created>
  <dc:creator>SUZANNE.MD</dc:creator>
  <dc:description/>
  <dc:language>en-US</dc:language>
  <cp:lastModifiedBy>HANI SAFI</cp:lastModifiedBy>
  <dcterms:modified xsi:type="dcterms:W3CDTF">2003-04-16T14:08:13Z</dcterms:modified>
  <cp:revision>2</cp:revision>
  <dc:subject/>
  <dc:title>PowerPoint Presentation</dc:title>
</cp:coreProperties>
</file>